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441-F798-4E15-81AF-9F1E892D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308-617F-48EB-B983-BD664DB1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A15-B530-4F05-86EC-19A81409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C33-6B9D-4303-82D0-F034E06A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41A-DFEF-4D02-A29A-6B755B8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9CF-FCC0-4EBF-9797-6098312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FBA-BC37-49AA-BA23-7139199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BA6-5E1A-4269-8A40-42575396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2EC-C5B1-4C9F-9807-CF72DDD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003-F3A7-4EA3-AC3B-8E8C661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EA8-BAE9-4B68-8233-6D273A8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364-9F84-4612-ADD1-A1A9563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8D1D-4F04-47A7-AB1A-23F3058B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30 de septiembre de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hermano de mi padre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tíos es mi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soy __________ de los padres de mis pa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dres de mis padres son mi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ja de mis padres es mi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400800" y="29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tí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3412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p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362320" y="4052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niet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086600" y="5029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ab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943600" y="55767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her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05120" y="1733400"/>
            <a:ext cx="5667120" cy="329580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 flipV="1">
            <a:off x="6400800" y="2286000"/>
            <a:ext cx="83808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V="1">
            <a:off x="4876920" y="1905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3962520" y="4724280"/>
            <a:ext cx="0" cy="99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5257800" y="4876920"/>
            <a:ext cx="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553080" y="4876920"/>
            <a:ext cx="106704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1980720" y="4800600"/>
            <a:ext cx="762120" cy="9144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04920" y="6248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30492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891540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114800" y="147780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Verdana"/>
              </a:rPr>
              <a:t>El b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629400" y="1859040"/>
            <a:ext cx="2514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El dorm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7086600" y="566892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Verdana"/>
              </a:rPr>
              <a:t>La coc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419720" y="5562720"/>
            <a:ext cx="22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6600"/>
                </a:solidFill>
                <a:latin typeface="Verdana"/>
              </a:rPr>
              <a:t>El com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2971800" y="5745240"/>
            <a:ext cx="1447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Verdana"/>
              </a:rPr>
              <a:t>La s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745240"/>
            <a:ext cx="1828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99"/>
                </a:solidFill>
                <a:latin typeface="Verdana"/>
              </a:rPr>
              <a:t>El gar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895480" y="6324480"/>
            <a:ext cx="3810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os cuartos de la c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La familia Lopez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as personas hay en la familia López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inco perso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n ellos una casa o un apartamento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una c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viven ellos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Barcel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cuartos tiene su casa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oc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80880" y="2909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Hay cinco personas en la familia Lóp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0880" y="43578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Ellos tienen un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57200" y="53481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Ellos viven en Barcel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57200" y="6338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Su casa tiene ocho cuar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I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Expresiones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emparej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a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mucho en la esc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quinto 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v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a nov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render ___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. un alumno bueno y s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d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e. una carta con bolí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. una lim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r 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. en una casa priv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. un programa depor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ir 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 fruta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b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arne, ensalada y pa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1371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57400" y="1843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2388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209680" y="281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905120" y="3276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905120" y="37479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523880" y="4205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47920" y="4662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6765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90512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Verdana"/>
              </a:rPr>
              <a:t>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MI FAMILIA Y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52:45Z</dcterms:created>
  <dc:creator>Helen Zumaeta</dc:creator>
  <dc:description/>
  <dc:language>en-US</dc:language>
  <cp:lastModifiedBy>Helen Zumaeta</cp:lastModifiedBy>
  <cp:lastPrinted>2014-09-30T13:25:55Z</cp:lastPrinted>
  <dcterms:modified xsi:type="dcterms:W3CDTF">2014-09-30T14:25:27Z</dcterms:modified>
  <cp:revision>13</cp:revision>
  <dc:subject/>
  <dc:title>Me llamo _______ Clase 6nh/il La fecha es el 4 de marzo del 2011</dc:title>
</cp:coreProperties>
</file>